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3447D-72F0-4BCC-9C41-D8D359FB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8331-53FB-41D2-9C43-13AA6481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E20A0-76C6-44A8-A6CD-58171E7DA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4982E-7AE4-40D8-8D01-55A65AB3C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93EC-2CAC-4674-850C-C3DE62D0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20BA-A97A-49DF-B7EB-29AE83AE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0005-1930-45E9-AE6E-5E79F135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B46E-BD18-4C19-8C8C-8661E59C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AF376-0808-4F87-8A9B-9023D5E6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7092-47E3-4D22-BF5F-445C070AF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5DD7-6524-4CD5-A96C-72447CAF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F548-634B-441D-948A-1F8D92C85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5FD3-96C4-4BA9-BA17-36F8136054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333360"/>
            <a:ext cx="5545080" cy="54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4.11 The World of Bone, Cornea, and Skin Donation and Transpla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rn Victim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1</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mprehensive burn programs offer exceptional care and a full range of services.  A burn care team includes plastic surgeons, physiotherapists, occupational therapists, dietitians, pharmacists, social workers and chaplains.  Choose one of the professions that  appeals to you and prepare a short job profile which would includ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urn Victims</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1</a:t>
            </a:r>
            <a:endParaRPr b="0" lang="en-US" sz="3200" spc="-1" strike="noStrike">
              <a:solidFill>
                <a:srgbClr val="000000"/>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b Profile</a:t>
            </a:r>
            <a:endParaRPr b="0" lang="en-US" sz="3200" spc="-1" strike="noStrike">
              <a:solidFill>
                <a:srgbClr val="000000"/>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scription of the key responsibilities you would assume as a professional involved with a patients recup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urn Victim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2</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vestigate the non-cosmetic side of plastic surgery.  Choose a procedure that make a significant difference to a child or adult who has congenital deformities, or acquired medical problems arising from bicycle, motorcycle, or any other accidents/unexpected inju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Bone Dona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ssignment </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ke a poster of a Skeleton that you would use to teach elementary school children about bones.  Label the bones you think are most important and include in your poster ten interesting facts about our bones and musc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rnea Donations</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reate a poster that would encourage people to donate their cornea’s after deat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lain piece of white paper will be big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Jason</cp:lastModifiedBy>
  <dcterms:modified xsi:type="dcterms:W3CDTF">2010-11-22T19:25:12Z</dcterms:modified>
  <cp:revision>52</cp:revision>
  <dc:subject/>
  <dc:title>TITLE</dc:title>
</cp:coreProperties>
</file>